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avdeRosyInstrumentalFP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F91-D06D-43FA-9E32-2EDC890C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7E6-465D-49D1-BF44-92B8F78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4DD-7D38-457A-B878-1A5ED7E2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4C1-C8A9-4B0F-BA72-97C012C1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16D-5F98-44A8-8A0D-C1919A49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8AE-5CBD-4704-9B82-A5651EB1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9E5-EB04-4501-B5A8-BCECC71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7B1-DDDE-4AA4-81F5-7C5C93C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C96-408A-41CD-A140-BEAD6CE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B20-5466-445C-AC06-CCCA8AE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74D-61A0-4A6D-98C1-1190C51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732-B896-440F-8397-3CB8291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F39A-ED7B-41C4-8D2A-3ECDDB4F01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deRosyInstrumentalFP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84720" y="5373720"/>
            <a:ext cx="2521080" cy="86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utor de la present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lác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0200" y="198900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666666"/>
                </a:solidFill>
                <a:latin typeface="Times New Roman"/>
              </a:rPr>
              <a:t>SALÍ DE FIESTA MAM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WavdeRosyInstrumentalF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i respiración se está debilitando, mamá, y tengo mucho miedo..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stos son mis últimos momentos y me siento tan desesperad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e gustaría que me pudieras abrazar, mamá, mientras estoy estirada, aquí, muriendo. Me gustaría poder decirte que te quiero. Mamá...no siento mi cuerpo, no puedo más mamá, te quiero..adiós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stas palabras fueron escritas por un periodista de informativos Telecinco España que presenció un accidente de tráfico en 1997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La joven, mientras moría, iba diciendo estas palabras a los allí present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l periodista empezó una campaña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Si este correo llegó hasta ti y lo borras, puedes estar perdiendo la oportunidad de concienciar a más personas y hacer que tu propia vida TAMBIÉN CORRA PELIGR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Y este pequeño gesto puede ser una gran diferencia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SI BEBES NO CONDUZCAS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s tu responsabilidad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Reenvialo, por fav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1484280"/>
            <a:ext cx="711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Times New Roman"/>
              </a:rPr>
              <a:t>Mientras estuve en la fiesta  me acordé de lo que me diji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Times New Roman"/>
              </a:rPr>
              <a:t>Me pediste que no bebi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Times New Roman"/>
              </a:rPr>
              <a:t>Alcohol, mamá. Por eso, bebí refresco. Sentí orgullo de mi mism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Hice una elección saludable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y tu consejo fue correcto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Cuando la fiesta finalmente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acabó la gente empezó a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conducir sin estar en condicion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28428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Fui a mi coche con la certeza de que iría a casa en paz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Nunca podría imaginar lo que esperaba mamá...algo que no podría ni imaginar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Ahora estoy tirada en la carretera y oigo a un Polícia decir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“El chico que provocó este accidente, iba borracho”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amá, su voz parecía tan dista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4286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Mi sangre está derramada por todos lados y estoy intentando con todas mi fuerzas no llorar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Puedo oir a los médicos diciendo: 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”Esta chica va a morir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Él, como yo, había salido de fiesta pero, él decidió beber y conducir y ahora yo tengo que morir..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¿Por qué las personas hacen esto mamá?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Sabiendo que esto va a arruinar vid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El dolor me está cortando con un centenar de cuchillos afilados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Di a mi hermana que no se asuste, mamá; dile a papá que sea fuerte, los quiero tanto, me gustaría que me des un último beso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5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Alguien debería haber dicho a aquel chico que está mal beber y conducir...</a:t>
            </a:r>
            <a:br>
              <a:rPr sz="4400"/>
            </a:br>
            <a:r>
              <a:rPr b="1" lang="pt-BR" sz="4400" spc="-1" strike="noStrike">
                <a:solidFill>
                  <a:srgbClr val="666666"/>
                </a:solidFill>
                <a:latin typeface="Arial"/>
                <a:ea typeface="Arial"/>
              </a:rPr>
              <a:t>Tal vez si sus padres se lo hubieran aconsejado yo ahora estaría vi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3:55:02Z</dcterms:created>
  <dc:creator>De la presentación. Placido</dc:creator>
  <dc:description/>
  <dc:language>en-US</dc:language>
  <cp:lastModifiedBy>amvidal</cp:lastModifiedBy>
  <dcterms:modified xsi:type="dcterms:W3CDTF">2006-06-13T14:06:29Z</dcterms:modified>
  <cp:revision>31</cp:revision>
  <dc:subject/>
  <dc:title>accidente</dc:title>
</cp:coreProperties>
</file>