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avdeRosyInstrumentalF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330-757B-4BB6-B900-0E2A1640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F79-0174-4F3A-8418-99F8F4EC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35E-CBA8-4704-B09B-37C42C2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AE1-5974-40B5-A7B0-9C02F87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C4A-BB8B-44EE-A688-A53FFE3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206-4F48-4E64-891D-DC55DCAD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00D-E05F-4311-959E-4BC7DE2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01-E1ED-4762-88C6-0C095D2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DE5-8C64-472E-A2D8-F040A0E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E98-BAA3-4158-BB36-FB644E3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ACA-B482-4748-8A55-20D8EC8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168-0455-4C05-9537-5A09B08C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8D8-E987-4C77-9856-FEC2B8319D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deRosyInstrumentalF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4720" y="5373720"/>
            <a:ext cx="2521080" cy="86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utor de la present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lác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0200" y="198900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666666"/>
                </a:solidFill>
                <a:latin typeface="Times New Roman"/>
              </a:rPr>
              <a:t>SALÍ DE FIESTA MAM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WavdeRosyInstrumentalF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i respiración se está debilitando, mamá, y tengo mucho miedo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tos son mis últimos momentos y me siento tan desesperad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e gustaría que me pudieras abrazar, mamá, mientras estoy estirada, aquí, muriendo. Me gustaría poder decirte que te quiero. Mamá...no siento mi cuerpo, no puedo más mamá, te quiero..adiós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tas palabras fueron escritas por un periodista de informativos Telecinco España que presenció un accidente de tráfico en 1997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La joven, mientras moría, iba diciendo estas palabras a los allí present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l periodista empezó una campaña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i este correo llegó hasta ti y lo borras, puedes estar perdiendo la oportunidad de concienciar a más personas y hacer que tu propia vida TAMBIÉN CORRA PELIGR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Y este pequeño gesto puede ser una gran diferencia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I BEBES NO CONDUZCAS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 tu responsabilidad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Reenvialo, por fav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1484280"/>
            <a:ext cx="711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Mientras estuve en la fiesta  me acordé de lo que me diji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Me pediste que no bebi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Alcohol, mamá. Por eso, bebí refresco. Sentí orgullo de mi mism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Hice una elección saludable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y tu consejo fue correcto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Cuando la fiesta finalmente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cabó la gente empezó a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conducir sin estar en condicion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28428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Fui a mi coche con la certeza de que iría a casa en paz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Nunca podría imaginar lo que esperaba mamá...algo que no podría ni imaginar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hora estoy tirada en la carretera y oigo a un Polícia decir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“El chico que provocó este accidente, iba borracho”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amá, su voz parecía tan dist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4286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i sangre está derramada por todos lados y estoy intentando con todas mi fuerzas no llorar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Puedo oir a los médicos diciendo: 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”Esta chica va a morir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Él, como yo, había salido de fiesta pero, él decidió beber y conducir y ahora yo tengo que morir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¿Por qué las personas hacen esto mamá?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abiendo que esto va a arruinar vid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l dolor me está cortando con un centenar de cuchillos afilados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Di a mi hermana que no se asuste, mamá; dile a papá que sea fuerte, los quiero tanto, me gustaría que me des un último beso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5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lguien debería haber dicho a aquel chico que está mal beber y conducir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Tal vez si sus padres se lo hubieran aconsejado yo ahora estaría vi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>De la presentación. Placido</dc:creator>
  <dc:description/>
  <dc:language>en-US</dc:language>
  <cp:lastModifiedBy>amvidal</cp:lastModifiedBy>
  <dcterms:modified xsi:type="dcterms:W3CDTF">2006-06-13T14:06:29Z</dcterms:modified>
  <cp:revision>31</cp:revision>
  <dc:subject/>
  <dc:title>accidente</dc:title>
</cp:coreProperties>
</file>