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11.png" ContentType="image/png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E291-F2F6-490E-BF78-BCF96484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FF5E-0C91-441A-B888-145031EB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FFB9-A855-4638-BC1E-71725209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1BA-DA79-4A79-A4B7-674BE6DC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231C-A886-463E-BDCA-325BEA0C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8E7-F205-426E-8AFC-27EB4872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7A7-712C-4BDD-B1B4-ED966C40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B9CA-7EB2-4A02-99DE-C511563D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C11-C4F5-4A1A-AB59-C6EF6A2A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050-B8A4-4FC8-BA51-B3E6DA28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98A3-9A4F-4BBB-A12D-14DBAE62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F32-2775-48DE-8D5E-1E66C2C3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4819-D539-416A-9190-B6431C6C40D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¡De que es capaz nuestro cerebro...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ra solo la cruz central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¡Dentro de un momento el circulo que se mueve se pondra de color ver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360" y="1306440"/>
            <a:ext cx="5435640" cy="5435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96000" y="3810240"/>
            <a:ext cx="309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 continuas mirando la cruz fijamente, en un poco rato desapareceran los circulos de color lila y solo se vera el circulo verde que se traslada por la pantall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Que en realidad es un circulo de color li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a solo el punto central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Y mueve tu cabeza hacia adelante y hacia atra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8272" r="0" b="10725"/>
          <a:stretch/>
        </p:blipFill>
        <p:spPr>
          <a:xfrm>
            <a:off x="990720" y="1447920"/>
            <a:ext cx="7200720" cy="52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¡¡¡Y lo mejor para el final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sto desde mi punto de vista es la mejor de las ilusiones en un PC.</a:t>
            </a:r>
            <a:br>
              <a:rPr sz="1800"/>
            </a:br>
            <a:r>
              <a:rPr b="0" i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Instrucciones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mira por 40 segundos los 4 puntos en el centro del dibujo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luego mira hacia otro lado y parpadea seguido sin parar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ueno ¿y a quien ves en tus oj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0418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602136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¡ de que es capaz nuestro cerebro...!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a el texto hasta el final, sin fijarse en que este se ve algo extraño...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 difreetnes invesigtacinoes los cinefiticos inlgeses descbureiron, que es de pcoa impotrancia en que odern etsan las lertas en las palbaras, lo mas improtnate,es que la prirmea y ulimta lerta tieenn que esatr en su luagr.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 del meido no es imoprtnate, aun asi pudees leer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ruqe nosrotos lemeos las pablaras enetras y no lerta por l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 ves que algo gira – ¡¡¡necesitas vacaciones!!!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ra detenidamente cada circulo separadamente y veras que ellos estan ¡quiet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5218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ra bien el dibujo...¿que ves?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e la explicacion que esta mas 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084560" cy="5445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95680" y="3606480"/>
            <a:ext cx="4469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s investigaciones han demostrado que los niños pequeños no pueden diferenciar esta pareja, ya que ellos en su memoria aun no tienen esta informacion asociada a 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¡¡¡Los niños pequeños solo ven 9 delfines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rale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 en el transcurso de 3 segundos no encuentras los delfines, te daras cuenta que clase asociaciones tiene tu cerebro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¿Otra vez todo gira? Si te fijas mejor te daras cuenta que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131920"/>
            <a:ext cx="8642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¿O quizas si giran?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008000"/>
            <a:ext cx="80647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¿O quizas no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379520"/>
            <a:ext cx="7272360" cy="5248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Ja, tun sie!"/>
          <p:cNvPicPr/>
          <p:nvPr/>
        </p:nvPicPr>
        <p:blipFill>
          <a:blip r:embed="rId2"/>
          <a:stretch/>
        </p:blipFill>
        <p:spPr>
          <a:xfrm>
            <a:off x="3203640" y="836640"/>
            <a:ext cx="273672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¡Las lineas rojas siempre estan paralelas entre ella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42920" y="1285920"/>
            <a:ext cx="7058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¿Que ves? ¿Una espiral o solo circulos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1280" y="662040"/>
            <a:ext cx="6156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7:09:20Z</dcterms:created>
  <dc:creator>Roland</dc:creator>
  <dc:description/>
  <dc:language>en-US</dc:language>
  <cp:lastModifiedBy>ORESTE RODRIGUEZ VASQUEZ</cp:lastModifiedBy>
  <dcterms:modified xsi:type="dcterms:W3CDTF">2006-06-12T14:09:02Z</dcterms:modified>
  <cp:revision>32</cp:revision>
  <dc:subject/>
  <dc:title>was das Hirn alles kann …</dc:title>
</cp:coreProperties>
</file>