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129-8FED-456C-A55B-5E4BB54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F54-F3D6-4989-9A2E-A0B47B68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73A-BDEB-41B3-81CE-559724C2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6F0-B448-4799-B9DD-F52711D5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87B-AC96-49ED-B3F1-45F22C7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17F-62A7-41D1-B285-4F1A252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8AB-E3A8-4800-9A65-28E0415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9DC-7B4D-40C1-96A0-BB1D09D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87A-812C-4D86-8BD5-87D6117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285-18F2-401B-B5D6-0B85F2F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5C3-E7E0-4635-A79A-8777E2C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182-7E0B-4199-BD51-C0247D2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660-A8AF-4E7E-8B7C-A51FB68D6A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¡De que es capaz nuestro cerebro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a solo la cruz central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¡Dentro de un momento el circulo que se mueve se pondra de color ver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3810240"/>
            <a:ext cx="30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continuas mirando la cruz fijamente, en un poco rato desapareceran los circulos de color lila y solo se vera el circulo verde que se traslada por la pantall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Que en realidad es un circulo de color l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a solo el punto central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 mueve tu cabeza hacia adelante y hacia atr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8272" r="0" b="10725"/>
          <a:stretch/>
        </p:blipFill>
        <p:spPr>
          <a:xfrm>
            <a:off x="990720" y="1447920"/>
            <a:ext cx="720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¡¡¡Y lo mejor para el final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o desde mi punto de vista es la mejor de las ilusiones en un PC.</a:t>
            </a:r>
            <a:br>
              <a:rPr sz="1800"/>
            </a:b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nstrucciones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mira por 40 segundos los 4 puntos en el centro del dibuj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luego mira hacia otro lado y parpadea seguido sin parar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eno ¿y a quien ves en tus oj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¡ de que es capaz nuestro cerebro...!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a el texto hasta el final, sin fijarse en que este se ve algo extraño..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 difreetnes invesigtacinoes los cinefiticos inlgeses descbureiron, que es de pcoa impotrancia en que odern etsan las lertas en las palbaras, lo mas improtnate,es que la prirmea y ulimta lerta tieenn que esatr en su luagr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 del meido no es imoprtnate, aun asi pudees lee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ruqe nosrotos lemeos las pablaras enetras y no lerta por l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 ves que algo gira – ¡¡¡necesitas vacaciones!!!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ra detenidamente cada circulo separadamente y veras que ellos estan ¡quie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a bien el dibujo...¿que ves?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e la explicacion que esta mas 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3606480"/>
            <a:ext cx="4469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 investigaciones han demostrado que los niños pequeños no pueden diferenciar esta pareja, ya que ellos en su memoria aun no tienen esta informacion asociada a 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¡¡¡Los niños pequeños solo ven 9 delfin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ral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 en el transcurso de 3 segundos no encuentras los delfines, te daras cuenta que clase asociaciones tiene tu cerebr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¿Otra vez todo gira? Si te fijas mejor te daras cuenta qu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¿O quizas si giran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¿O quizas no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¡Las lineas rojas siempre estan paralelas entre ell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¿Que ves? ¿Una espiral o solo circulo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66204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ORESTE RODRIGUEZ VASQUEZ</cp:lastModifiedBy>
  <dcterms:modified xsi:type="dcterms:W3CDTF">2006-06-12T14:09:02Z</dcterms:modified>
  <cp:revision>32</cp:revision>
  <dc:subject/>
  <dc:title>was das Hirn alles kann …</dc:title>
</cp:coreProperties>
</file>