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F88-B996-43A6-BA7B-703C0EAD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7B9-D362-41D7-B111-E1717D69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9C2-03F6-4E9F-B37F-1EC95B9B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147-307C-4E12-8A29-02C63139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C79-0819-4CD0-871A-B8BEEDAE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EEA-D871-403E-AF1D-F7F341A9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3CB-89AF-49F6-9343-2B7C2AB3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335-D892-459C-9BAE-21C178E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F51-D7FA-4B26-B3AB-68A5CEC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C47-DA73-4D99-A5D9-2FBFDEF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8E6-140F-466D-BE99-6054CAD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274-888E-4654-9028-BFA6BAE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96FB-5744-4ECE-B40A-0EF2E6EE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Hay  algo  que te molesta y preocupa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Observa a tu alrededor y y agradece todo lo que te ha sido dado en esta transitoria vida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omos afortunados, tenemos mucho más de lo que necesitamos para vivir fe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ratemos de no alimentar esta siniestra rueda, consumista e inmoral, de esta sociedad “moderna y avanzada” que olvida e ignora a las dos terceras partes de nuestros congéne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8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viemos esta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in hacer cade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 te la que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az, al menos, un enví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 será en v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844640"/>
            <a:ext cx="67453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¡Quejémonos menos 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demos mas!</a:t>
            </a:r>
            <a:r>
              <a:rPr b="0" i="1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fastidia estudiar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ellos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Odias las Verdura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ellos les duele el hambr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ives a dieta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mueren a die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molesta la sobreprotección de tus padre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no tienen  padr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aburren los mismos juego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3881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no tienen opció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compraron Adidas y tu querías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sólo tienen de esta Marc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e fastidia que te manden a dormir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Ellos quisieran no despertar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Y si todavía algo te sigue preocupando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Fran</cp:lastModifiedBy>
  <dcterms:modified xsi:type="dcterms:W3CDTF">2005-12-17T00:00:20Z</dcterms:modified>
  <cp:revision>14</cp:revision>
  <dc:subject/>
  <dc:title>ALGO TE MOLESTA?</dc:title>
</cp:coreProperties>
</file>