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3152-49E6-4029-8DF5-ADE76F7F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45D0-2DEB-40E8-8287-EF4AAB44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FD90-C170-436B-9B77-9A822EDA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3F95-2721-41CD-B130-DCE571BDE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406A-A1D2-4974-871C-8CBA49CB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02A9-27E4-4243-A1F1-E7A3BF4E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CB60-3ED7-4959-8BD0-FED14BA4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6A0F-5E8F-4870-BAA7-61E88833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A2F9-1B56-4C11-B966-7186321C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8331-1E5D-4F12-9A89-FAD73C80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269F-7CE5-498A-AC08-62557094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B382-6A50-4CAB-86C2-D8286F37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1AC1-F5CA-46B3-84A3-4730DA5A6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2205000"/>
            <a:ext cx="5688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Hay  algo  que te molesta y preocupa…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19272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Observa a tu alrededor y y agradece todo lo que te ha sido dado en esta transitoria vida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13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Somos afortunados, tenemos mucho más de lo que necesitamos para vivir fel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Tratemos de no alimentar esta siniestra rueda, consumista e inmoral, de esta sociedad “moderna y avanzada” que olvida e ignora a las dos terceras partes de nuestros congéne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39920" y="3246480"/>
            <a:ext cx="53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vie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781360"/>
            <a:ext cx="889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nviemos esta present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sin hacer caden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No te la que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Haz, al menos, un enví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No será en v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87280" y="1844640"/>
            <a:ext cx="674532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000" spc="-1" strike="noStrike">
                <a:solidFill>
                  <a:srgbClr val="ffffff"/>
                </a:solidFill>
                <a:latin typeface="Arial"/>
              </a:rPr>
              <a:t>¡Quejémonos menos 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000" spc="-1" strike="noStrike">
                <a:solidFill>
                  <a:srgbClr val="ffffff"/>
                </a:solidFill>
                <a:latin typeface="Arial"/>
              </a:rPr>
              <a:t>demos mas!</a:t>
            </a:r>
            <a:r>
              <a:rPr b="0" i="1" lang="es-E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xit" presetID="40">
                                  <p:stCondLst>
                                    <p:cond delay="15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1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3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3738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84720" y="404640"/>
            <a:ext cx="395928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Te fastidia estudiar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324000" y="4724280"/>
            <a:ext cx="395928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A ellos n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373560" y="2781360"/>
            <a:ext cx="57704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92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022560" y="2533680"/>
            <a:ext cx="6121440" cy="4324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932360" y="404640"/>
            <a:ext cx="395928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Odias las Verduras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941720"/>
            <a:ext cx="3384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A ellos les duele el hambre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208400" cy="6308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3280" y="549360"/>
            <a:ext cx="4208760" cy="6308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5388120"/>
            <a:ext cx="395928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Vives a dieta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2360" y="5388120"/>
            <a:ext cx="395928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Ellos mueren a dieta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524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7524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4797360"/>
            <a:ext cx="4500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Te molesta la sobreprotección de tus padres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3280" y="5084640"/>
            <a:ext cx="4500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Ellos no tienen  padres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5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5148360" cy="3637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726080" y="0"/>
            <a:ext cx="4417920" cy="6021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4797360"/>
            <a:ext cx="4500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Te aburren los mismos juegos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5388120"/>
            <a:ext cx="4500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Ellos no tienen opción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11280" y="2565360"/>
            <a:ext cx="3333600" cy="3333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076720" y="2133720"/>
            <a:ext cx="3810240" cy="4400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333360"/>
            <a:ext cx="4500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Te compraron Adidas y tu querías Nike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38560" y="333360"/>
            <a:ext cx="410544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Ellos sólo tienen de esta Marca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80000" cy="3941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492360" y="2865600"/>
            <a:ext cx="5651640" cy="3992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643280" y="765000"/>
            <a:ext cx="4500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Te fastidia que te manden a dormir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4581360"/>
            <a:ext cx="3024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Ellos quisieran no despertar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NO TE QUEJ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2205000"/>
            <a:ext cx="54007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Y si todavía algo te sigue preocupando…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03:26:55Z</dcterms:created>
  <dc:creator>Liza Ruchman</dc:creator>
  <dc:description/>
  <dc:language>en-US</dc:language>
  <cp:lastModifiedBy>Fran</cp:lastModifiedBy>
  <dcterms:modified xsi:type="dcterms:W3CDTF">2005-12-17T00:00:20Z</dcterms:modified>
  <cp:revision>14</cp:revision>
  <dc:subject/>
  <dc:title>ALGO TE MOLESTA?</dc:title>
</cp:coreProperties>
</file>