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C741F-E9E3-4478-9573-C426ADBD1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00A01-334C-4619-B77F-4D5C0126E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57907-074A-4A7F-909A-B130DD133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5A2C8-8ADB-46E7-B8D6-D477D4283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20372-6B36-4022-A586-22B9281BB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1AE56-CE22-4BB3-B3CF-DC0F6ED3F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64F80-B79B-484C-B95D-8D79B639F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C19A9-6AD8-495B-81D1-91C0D943A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9D0F7-A42C-4FCD-B51F-EA3C5C012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A224F-EDC6-465E-83A9-92A978CFC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5CF05-EC41-4209-A429-36146FAEF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9387A-1FF8-4D10-B2BB-06FD123D7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E0CC-584C-4BC6-8BBC-4E752FE77F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1143000" y="990720"/>
            <a:ext cx="7391520" cy="434340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ffff00"/>
                  </a:solidFill>
                  <a:miter/>
                </a:ln>
                <a:gradFill rotWithShape="0">
                  <a:gsLst>
                    <a:gs pos="0">
                      <a:srgbClr val="000000"/>
                    </a:gs>
                    <a:gs pos="50000">
                      <a:srgbClr val="ffbf00"/>
                    </a:gs>
                    <a:gs pos="100000">
                      <a:srgbClr val="000000"/>
                    </a:gs>
                  </a:gsLst>
                  <a:lin ang="5400000"/>
                </a:gradFill>
                <a:latin typeface="Arial Black"/>
              </a:rPr>
              <a:t>IMPRESSIONANTE</a:t>
            </a:r>
            <a:endParaRPr b="1" lang="en-US" sz="8000" spc="1" strike="noStrike">
              <a:ln w="9360">
                <a:solidFill>
                  <a:srgbClr val="ffff00"/>
                </a:solidFill>
                <a:miter/>
              </a:ln>
              <a:gradFill rotWithShape="0">
                <a:gsLst>
                  <a:gs pos="0">
                    <a:srgbClr val="000000"/>
                  </a:gs>
                  <a:gs pos="50000">
                    <a:srgbClr val="ffbf00"/>
                  </a:gs>
                  <a:gs pos="100000">
                    <a:srgbClr val="000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1143000" y="1295280"/>
            <a:ext cx="68580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Estas fotografías empezaron a circular en noviembre del 2002, y se creyó que serian la “foto del año”.  De hecho, una de ellas se publicó en la portada del NY Times como gran acontecimiento.</a:t>
            </a:r>
            <a:endParaRPr b="0" lang="en-US" sz="2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El texto del artículo se traduce y resume al mismo tiempo, ya que es largo y tiene bastantes términos y frases muy tecnicas.</a:t>
            </a:r>
            <a:endParaRPr b="0" lang="en-US" sz="2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   </a:t>
            </a:r>
            <a:r>
              <a:rPr b="0" lang="pt-BR" sz="2000" spc="-1" strike="noStrike">
                <a:solidFill>
                  <a:srgbClr val="ff9900"/>
                </a:solidFill>
                <a:latin typeface="Arial"/>
              </a:rPr>
              <a:t>Espero que toquen su corazón y que Dios los bendi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685800" y="911880"/>
            <a:ext cx="7924680" cy="512460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La foto es de un bebé de 21 semanas, aún sin nacer, llamado Samuel Armas al que se le había diagnosticado una espina bífida y nunca sobreviviría si se le extraía de la matriz de su madre.</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El Dr. Bruner, tras grandes estudios realizados en el Centro Médico Universitario de Vanderbilt, en Nashville, anunció que él podria llevar a cabo una operación así, con el bebé dentro de la matríz materna.</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Durante la intervención, el cirujano extrae el útero mediante una sección-C y practica una pequeña incisión a través de la cual es capaz de operar al pequeño Samu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533520" y="598680"/>
            <a:ext cx="8153280" cy="5639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Al tiempo que el Dr. Bruner acababa de terminar la operación con éxito, Samuel sacó su pequeñísima pero bien desarrollada mano a través de la incisión practicada y cogió la mano del atónito médico.</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Este pestigioso cirujano declaró haber vivido el momento más emotivo de su vida, al tiempo que sentía la mano de Samuel asiéndole uno de sus dedos, a modo de agradecimiento por obsequiarle con el regalo de la vid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Por supuesto el Dr. Bruner permaneció helado, totalmente inmóvil por varios segundos, durante los cuales Samuel seguía cogiéndole el dedo, lo cual dio el suficiente tiempo para que el resto del personal del quirófamo pudiera fotografiar el momento con toda clar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a1" descr=""/>
          <p:cNvPicPr/>
          <p:nvPr/>
        </p:nvPicPr>
        <p:blipFill>
          <a:blip r:embed="rId1"/>
          <a:stretch/>
        </p:blipFill>
        <p:spPr>
          <a:xfrm>
            <a:off x="1306440" y="1752480"/>
            <a:ext cx="6529320" cy="4419720"/>
          </a:xfrm>
          <a:prstGeom prst="rect">
            <a:avLst/>
          </a:prstGeom>
          <a:ln w="0">
            <a:noFill/>
          </a:ln>
        </p:spPr>
      </p:pic>
      <p:sp>
        <p:nvSpPr>
          <p:cNvPr id="46" name=""/>
          <p:cNvSpPr/>
          <p:nvPr/>
        </p:nvSpPr>
        <p:spPr>
          <a:xfrm>
            <a:off x="1219320" y="685800"/>
            <a:ext cx="6781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Los editores del NYTimes titularon la foto “Hand of Hope” (mano de la esperanza).</a:t>
            </a:r>
            <a:endParaRPr b="0" lang="en-US" sz="20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a2" descr=""/>
          <p:cNvPicPr/>
          <p:nvPr/>
        </p:nvPicPr>
        <p:blipFill>
          <a:blip r:embed="rId1"/>
          <a:stretch/>
        </p:blipFill>
        <p:spPr>
          <a:xfrm>
            <a:off x="1447920" y="1803240"/>
            <a:ext cx="6249960" cy="4597560"/>
          </a:xfrm>
          <a:prstGeom prst="rect">
            <a:avLst/>
          </a:prstGeom>
          <a:ln w="0">
            <a:noFill/>
          </a:ln>
        </p:spPr>
      </p:pic>
      <p:sp>
        <p:nvSpPr>
          <p:cNvPr id="48" name=""/>
          <p:cNvSpPr/>
          <p:nvPr/>
        </p:nvSpPr>
        <p:spPr>
          <a:xfrm>
            <a:off x="533520" y="457200"/>
            <a:ext cx="7924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Su madre declaró no haber dejado de llorar emocionada durante varios días, viendo la increible fotografía.</a:t>
            </a:r>
            <a:endParaRPr b="0" lang="en-US" sz="2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a3" descr=""/>
          <p:cNvPicPr/>
          <p:nvPr/>
        </p:nvPicPr>
        <p:blipFill>
          <a:blip r:embed="rId1"/>
          <a:stretch/>
        </p:blipFill>
        <p:spPr>
          <a:xfrm>
            <a:off x="1295280" y="1512720"/>
            <a:ext cx="6629400" cy="4507200"/>
          </a:xfrm>
          <a:prstGeom prst="rect">
            <a:avLst/>
          </a:prstGeom>
          <a:ln w="0">
            <a:noFill/>
          </a:ln>
        </p:spPr>
      </p:pic>
      <p:sp>
        <p:nvSpPr>
          <p:cNvPr id="50" name=""/>
          <p:cNvSpPr/>
          <p:nvPr/>
        </p:nvSpPr>
        <p:spPr>
          <a:xfrm>
            <a:off x="1523880" y="6308640"/>
            <a:ext cx="6096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2b2b2"/>
                </a:solidFill>
                <a:latin typeface="Times New Roman"/>
              </a:rPr>
              <a:t>Samuel,  meses después...</a:t>
            </a:r>
            <a:endParaRPr b="0" lang="en-US" sz="2000" spc="-1" strike="noStrike">
              <a:solidFill>
                <a:srgbClr val="000000"/>
              </a:solidFill>
              <a:latin typeface="Times New Roman"/>
            </a:endParaRPr>
          </a:p>
        </p:txBody>
      </p:sp>
      <p:sp>
        <p:nvSpPr>
          <p:cNvPr id="51" name=""/>
          <p:cNvSpPr/>
          <p:nvPr/>
        </p:nvSpPr>
        <p:spPr>
          <a:xfrm>
            <a:off x="762120" y="434880"/>
            <a:ext cx="754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Samuel salió de la operación y lleva  una vida 100% normal hasta la fecha.</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1295280" y="1676520"/>
            <a:ext cx="6705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ccccff"/>
                </a:solidFill>
                <a:latin typeface="Arial"/>
              </a:rPr>
              <a:t>Todavia nos preguntamos si Dios existe?</a:t>
            </a:r>
            <a:endParaRPr b="0" lang="en-US" sz="4000" spc="-1" strike="noStrike">
              <a:solidFill>
                <a:srgbClr val="000000"/>
              </a:solidFill>
              <a:latin typeface="Times New Roman"/>
            </a:endParaRPr>
          </a:p>
        </p:txBody>
      </p:sp>
      <p:sp>
        <p:nvSpPr>
          <p:cNvPr id="53" name=""/>
          <p:cNvSpPr/>
          <p:nvPr/>
        </p:nvSpPr>
        <p:spPr>
          <a:xfrm>
            <a:off x="304920" y="4724280"/>
            <a:ext cx="883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spero que tengan un bonito día, lleno de salud y trabaj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6T10:25:32Z</dcterms:created>
  <dc:creator>MI_2057</dc:creator>
  <dc:description/>
  <dc:language>en-US</dc:language>
  <cp:lastModifiedBy>Roberto Fabbroni</cp:lastModifiedBy>
  <dcterms:modified xsi:type="dcterms:W3CDTF">2005-02-23T12:46:43Z</dcterms:modified>
  <cp:revision>7</cp:revision>
  <dc:subject/>
  <dc:title>Slide sem título </dc:title>
</cp:coreProperties>
</file>