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Forest%20Gump%20Theme210.wav" ContentType="audio/x-wav"/>
  <Override PartName="/ppt/media/image5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78A-D607-45B3-8884-6E3D0719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319-A1A9-4F06-A6B4-6BC0B59A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510-41BB-4BD4-B27E-BFCDAB72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067-5D5E-4427-AD12-8DCFBCB1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9A9-0345-4218-BE4B-E6BA4E4A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5F0-E3DD-4FD1-8945-A56D97C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B2B-06BD-4EA2-BF56-E4AD1C14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19A-428E-440B-ABDA-F6574DB0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3F0-8733-4C41-ACDF-1DB5E5C3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1FC-1AE2-4050-910C-061AC3E1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2E1-9C23-47BB-948A-0082283B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65B-FBE5-46E8-9580-47BFF310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BF20-DCD1-4F3F-BD9B-532192631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rest%20Gump%20Theme21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04640"/>
            <a:ext cx="813600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4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6666ff"/>
                </a:solidFill>
                <a:uFillTx/>
                <a:latin typeface="Berlin Sans FB"/>
                <a:ea typeface="Times New Roman"/>
              </a:rPr>
              <a:t>La   Cieg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708280"/>
            <a:ext cx="3025440" cy="28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85080" cy="43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0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0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6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141300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bía un ciega sentada en la calle, con una taza  y un pedazo de cartón, escrito con tinta negra, que decí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404640"/>
            <a:ext cx="662472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creativo de publicidad que pasaba frente a ella, se detuvo y observó unas pocas monedas en la ta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 pedirle permiso tomó el cartel, le dio vuelta, tomó un marcador negro que el llevaba y escribió otro anun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lvió a poner el pedazo de cartón sobre los pies de la ciega y se fue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6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260280"/>
            <a:ext cx="784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la tarde el creativo volvió a pasar frente la ciega que pedía limosna; su taza estaba llena de billetes y monedas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ciega reconoció sus pasos y le preguntó si había sido él, quien reescribió su cartel y sobre todo, qué había escrito. 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publicista le contestó: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"Nada que no sea tan cierto como tu anuncio, pero con otras palabras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nrió y siguió su cam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nuevo mensaje decí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6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3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64008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biemos de estrategia cuando no nos sale algo, y verán que puede que resulte mejor de esa maner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die puede ser esclavo de su identidad: cuando surge una posibilidad de cambio, hay que cambia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masas humanas más peligrosas son aquellas en cuyas venas ha sido inyectado el veneno del miedo.... del miedo al cam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690480"/>
            <a:ext cx="8785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"Si haces lo que siempre has hech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obtendrás los resultados que siempre has obtenido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mundo exige resultados. No le cuentes a otros tus dolores del parto. Muéstrales al ni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76360" y="494172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 deseo un feliz día... y ten en mente que todo cambio, renueva día a día tu vid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18:01:41Z</dcterms:created>
  <dc:creator>PatriciaEMF</dc:creator>
  <dc:description/>
  <dc:language>en-US</dc:language>
  <cp:lastModifiedBy>user</cp:lastModifiedBy>
  <dcterms:modified xsi:type="dcterms:W3CDTF">2008-05-09T17:57:41Z</dcterms:modified>
  <cp:revision>42</cp:revision>
  <dc:subject/>
  <dc:title>Experimento científico</dc:title>
</cp:coreProperties>
</file>