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ATT02934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40B-D930-47EC-A2E5-8419E049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1A5-3B81-487B-93D8-026D6DD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B4E-F70A-45B7-8573-4C76BA64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7FA-0B3E-44BD-8F5D-B1CC969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9BD-2646-4266-B3A0-7DDE0B9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FD-02E5-46D9-9EAB-B56F01C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CC5-D615-4F07-AB89-7F37AE0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6D-83A1-41AA-9367-AAE5319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DC5-2D80-413A-A39F-991F51D3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2DC-B4F2-4B84-BCBA-401E789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60C-A043-4F31-B9D6-EA5918C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323-363E-4542-9787-18AD3D4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385-DA52-4597-B738-92D8C0D83B55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66"/>
                </a:solidFill>
                <a:latin typeface="Cataneo BT"/>
              </a:rPr>
              <a:t>La </a:t>
            </a:r>
            <a:r>
              <a:rPr b="1" lang="es-ES" sz="5400" spc="-1" strike="noStrike">
                <a:solidFill>
                  <a:srgbClr val="000066"/>
                </a:solidFill>
                <a:latin typeface="Comic Sans MS"/>
              </a:rPr>
              <a:t>copa</a:t>
            </a:r>
            <a:r>
              <a:rPr b="1" lang="es-ES" sz="5400" spc="-1" strike="noStrike">
                <a:solidFill>
                  <a:srgbClr val="000066"/>
                </a:solidFill>
                <a:latin typeface="Cataneo BT"/>
              </a:rPr>
              <a:t> de la vi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TT0293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512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Book Antiqua"/>
              </a:rPr>
              <a:t>Ingredientes</a:t>
            </a:r>
            <a:r>
              <a:rPr b="1" lang="es-MX" sz="3600" spc="-1" strike="noStrike" u="sng">
                <a:solidFill>
                  <a:srgbClr val="ffff00"/>
                </a:solidFill>
                <a:uFillTx/>
                <a:latin typeface="Book Antiqua"/>
              </a:rPr>
              <a:t> de la fe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Compartir lo que t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9528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Perdonar sin cicat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ceptar sin perf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0000" y="6095880"/>
            <a:ext cx="419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 Antiqua"/>
              </a:rPr>
              <a:t>¡Y no rendirte nunc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gradecer lo que te d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43434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mar sin exig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3048120"/>
            <a:ext cx="3124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To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tiene que i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armonizan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5240" y="4038480"/>
            <a:ext cx="600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panal, un poquito de m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mar, un poquito de 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 la vida, un toque de opti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 la imaginación, sueño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s</a:t>
            </a: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dolor, raí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ces fue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Y de la fe,  ¡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solidez</a:t>
            </a: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 de ro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940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No somos feli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porque no sabemos cómo llenar nuestra cop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porque no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damos </a:t>
            </a: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a la vida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todo lo que podemos d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y</a:t>
            </a: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esperamos, a veces ingenuamente, que la vida nos regale... pero sin pagar 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9520" y="77400"/>
            <a:ext cx="893448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 olvidemos que la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mejor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manera de ser fel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s ocuparse de que otros lo sean;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 de servir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mos mucho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 d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nosotros y la felicidad llegará s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lenemos nuestra copa! y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deleitémo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sie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20574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FELIC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feitos%20da%20Neve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ook Antiqua"/>
              </a:rPr>
              <a:t>La vida es una copa llena de felicidad,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Book Antiqua"/>
              </a:rPr>
              <a:t> pero nunca se te da ll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feitos%20da%20Neve%2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816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Te dan un sorbito de vez en cua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un sorbito que tienes que ir llena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gota a gota, todos los dí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para sobre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feitos%20da%20Neve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No te la pases 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gimiendo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por tus desgraci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pronosticando tragedias imag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asustado por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que 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probabl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nunca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lleg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ue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feitos%20da%20Neve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3733920"/>
            <a:ext cx="87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Nacemos para luchar por la felicida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para crear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para 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constru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a pesar de tristeza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desencantos, error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malas jug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 irremediables imprevi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feitos%20da%20Neve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52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a felicidad no se 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ncuen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n bienes y plac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943600"/>
            <a:ext cx="741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Se actúa bien, y ella sola se va presentando</a:t>
            </a:r>
            <a:r>
              <a:rPr b="1" lang="es-ES" sz="2800" spc="-1" strike="noStrike">
                <a:solidFill>
                  <a:srgbClr val="cc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feitos%20da%20Neve%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49568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La felicidad n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estar año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todo lo que nos falt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sino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acoplarnos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a to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                            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lo que tenemos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 y lo que no tenemos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Efeitos%20da%20Neve%2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5520" y="51055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No vendas tu felicidad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5867280"/>
            <a:ext cx="249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 Antiqua"/>
              </a:rPr>
              <a:t>¡R</a:t>
            </a:r>
            <a:r>
              <a:rPr b="1" lang="es-ES" sz="4000" spc="-1" strike="noStrike">
                <a:solidFill>
                  <a:srgbClr val="ffff00"/>
                </a:solidFill>
                <a:latin typeface="Book Antiqua"/>
              </a:rPr>
              <a:t>egálal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feitos%20da%20Neve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911920"/>
            <a:ext cx="89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No busques fórmulas sencillas ni bara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para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lograr la fe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0:38:56Z</dcterms:created>
  <dc:creator>Alberto Melo Caldas</dc:creator>
  <dc:description/>
  <dc:language>en-US</dc:language>
  <cp:lastModifiedBy>538</cp:lastModifiedBy>
  <dcterms:modified xsi:type="dcterms:W3CDTF">2005-12-15T18:39:56Z</dcterms:modified>
  <cp:revision>20</cp:revision>
  <dc:subject/>
  <dc:title>Sem título de diapositivo</dc:title>
</cp:coreProperties>
</file>