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Ernesto-Cortazar-A-Waltz-Towards-Eternity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001-81A2-4476-81FE-8A506167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460-FD88-42D2-93C5-8AC1F900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EAB-3130-4D97-8B32-9619AFB1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634-B206-4353-9FA0-4FAF7816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23A-821E-44C9-9024-9A0022D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FF5-682E-4DD6-857F-64CB8B9B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45A-3F70-4CC7-B9AF-D48044B9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BBD-B412-4340-8F02-EB4A2724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0F0-2730-4C77-9E8F-8A11F7BD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6BD-A05C-4D91-8081-68A9B147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DF5-230E-49AB-869D-8CD8436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5D6-634C-454C-A01C-5E68C98A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ACF3-3000-4253-8B26-B7E283A910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rnesto-Cortazar-A-Waltz-Towards-Eternit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67" t="3610" r="2745" b="-1496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404640"/>
            <a:ext cx="47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Como Amar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51280" y="5013360"/>
            <a:ext cx="619272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al Adulto Mayo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85768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61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501336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 como él sabe; como él quiere, porque el adulto mayor descubre la sombra de DIOS en el camino que le falta recorr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04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RE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9144000" cy="7102080"/>
            <a:chOff x="0" y="0"/>
            <a:chExt cx="9144000" cy="710208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622920" y="6521400"/>
              <a:ext cx="252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Papyrus"/>
                </a:rPr>
                <a:t>Presentación: Frida Pe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91160"/>
              <a:ext cx="53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pyrus"/>
                </a:rPr>
                <a:t>Ernesto Cortázar: A Valtz to the Eterni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11280" y="450864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. entre brazos llenos de piedad, porque el AMOR de los hermanos sobre la tierra, nos hace presentir mejor el torrente infinito de amor del PADRE en EL CIE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692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MOR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630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308640"/>
            <a:ext cx="26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85768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053" t="16729" r="5053" b="154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522936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. porque hay en su pasado un tesoro lleno de verdad, de belleza y de b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76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HA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6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46200" y="292428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en las discusiones, porque tiene necesidad de sentirse seguro de sí mis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557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V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321300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.... a sus  viejos  amigos  porque entre  ellos  se  siente  re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8428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DÉJALO  IR  A  VIS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3201" t="11468" r="11956" b="72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2781360"/>
            <a:ext cx="54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 sus historias repetidas, porque se siente feliz cuando lo escucha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CO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5445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 entre las cosas que ha amado, porque sufre al sentir que le arrancamos pedazos de su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VIV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74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5157720"/>
            <a:ext cx="806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. cuando se ha equivocado porque los ancianos como los niños tienen derecho a la comprens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GR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242100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 ..en el automóvil de la familia cuando van de vacaciones, porque el próximo año tendrás remordimientos de conciencia si ya no existe 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549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TOMAR  UN  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4581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... . con el mismo paciente amor con que dejas crecer a tus hijos, porque todo es parte de la naturale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0360" y="2637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ÉJALO  ENVEJ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6:25:40Z</dcterms:created>
  <dc:creator>Frida Perea</dc:creator>
  <dc:description/>
  <dc:language>en-US</dc:language>
  <cp:lastModifiedBy>elaccitano</cp:lastModifiedBy>
  <dcterms:modified xsi:type="dcterms:W3CDTF">2008-01-28T10:09:52Z</dcterms:modified>
  <cp:revision>4</cp:revision>
  <dc:subject>Reflexión</dc:subject>
  <dc:title>Como amar al Adulto Mayor</dc:title>
</cp:coreProperties>
</file>