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TT02934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A0B-AC6A-415F-898C-F752A3C7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5DD-4E47-4A23-AAF3-0064EC9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989-8F93-4DFA-A314-19385CED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26F-63F9-4B44-AA28-1C351C6E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28D-2D22-42C9-911D-CEBE9DD0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579-2B85-49C6-8F67-6209C42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F63-4988-4F88-93D1-436E7C39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C14-33F8-464D-8150-985D4B0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5DC-0418-4151-9621-77477FDA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11F-1F85-4045-97EC-02A266F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ACA-C5B7-4B55-B047-64CDA513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E87-33C0-4583-9D9F-69F5805C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F30-5C7C-49E4-9668-E9BA7D17F4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T02934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0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00"/>
                </a:solidFill>
                <a:latin typeface="Lucida Handwriting"/>
              </a:rPr>
              <a:t>EL ESCONDITE PERF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random/>
    <p:sndAc>
      <p:stSnd>
        <p:snd r:embed="rId2" name="ATT0293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06440" y="533520"/>
            <a:ext cx="67734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En el principio de los tiempos, se reunieron vari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demonios para hacer una travesur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Uno de ellos dij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Debemos quitarles algo a los humanos, per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¿qué les quitamos?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Después de mucho pensar uno dij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¡Ya sé!, vamos a quitarles la felicidad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ero el problema va a ser dónde esconder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ara que no la puedan encontrar"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343400"/>
            <a:ext cx="86104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....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a lo que inmediatamente repuso otr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no, recuerda que tienen fuerza, alguna vez alguien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uede subir y encontrarla, y si la encuentra u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ya todos sabrán donde está".</a:t>
            </a: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85800"/>
            <a:ext cx="89154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Propuso el primer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Vamos a esconderla en la cima del monte más alto </a:t>
            </a:r>
            <a:r>
              <a:rPr b="1" lang="es-MX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r>
              <a:rPr b="1" lang="es-ES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del</a:t>
            </a:r>
            <a:r>
              <a:rPr b="1" lang="es-MX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r>
              <a:rPr b="1" lang="es-ES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mundo"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4680" y="4648320"/>
            <a:ext cx="731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No, recuerda que tienen curiosidad, alguna vez algu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construirá algún aparato para poder baj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y entonces la encontrará".</a:t>
            </a: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23440" y="320760"/>
            <a:ext cx="6670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Luego propuso otr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Entonces vamos a esconderla en el fondo del mar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y otro contestó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91120"/>
            <a:ext cx="86868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No, recuerda que tienen inteligencia, y un día alguien va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construir una nave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en la que pueda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viajar a ot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lanetas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y la va a descubrir, y entonces todos tendrá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felicidad".</a:t>
            </a: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9600" y="320760"/>
            <a:ext cx="29574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Uno más dij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Escondámosla en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planeta lejano 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Tierra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Y le dijer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2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80" y="3505320"/>
            <a:ext cx="809928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Analizó cada una de ellas y entonces dij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Creo saber dónde ponerla para que realmente nunca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la encuentren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Todos voltearon asombrados y preguntaron al mismo tiemp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¿Dónde?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El demonio respondió:</a:t>
            </a:r>
            <a:r>
              <a:rPr b="1" lang="es-MX" sz="2000" spc="-1" strike="noStrike">
                <a:solidFill>
                  <a:srgbClr val="00ffff"/>
                </a:solidFill>
                <a:latin typeface="Times New Roman"/>
              </a:rPr>
              <a:t> .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20760"/>
            <a:ext cx="86104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El último de ellos era un demonio que había perman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en silencio escuchando atentamente cada una de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propuestas de los demá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2000" y="244440"/>
            <a:ext cx="7293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La esconderemos dentro de ellos mismos, estarán t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ocupados buscándola fuera, que nunca la encontrarán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40" y="1052640"/>
            <a:ext cx="8840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pperplate Gothic Bold"/>
                <a:ea typeface="Tahoma"/>
              </a:rPr>
              <a:t>Todos estuvieron de acuerdo y desde entonces ha sido a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653000"/>
            <a:ext cx="860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El humano se pasa la vida buscando la felicidad</a:t>
            </a:r>
            <a:r>
              <a:rPr b="1" lang="es-MX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sin 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que la trae consigo</a:t>
            </a:r>
            <a:r>
              <a:rPr b="1" lang="es-MX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El tirano Aguirre y Rub.</dc:creator>
  <dc:description/>
  <dc:language>en-US</dc:language>
  <cp:lastModifiedBy>master</cp:lastModifiedBy>
  <dcterms:modified xsi:type="dcterms:W3CDTF">2005-07-18T15:33:37Z</dcterms:modified>
  <cp:revision>20</cp:revision>
  <dc:subject/>
  <dc:title>EL ESCONDITE PERFECTO</dc:title>
</cp:coreProperties>
</file>