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TT02934.wav" ContentType="audio/x-wav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E361-D04F-4B1E-974D-F3D006A4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62A1-3CBA-454B-B1E3-E0179CD1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4773-602F-4FE1-BB56-D5BFFE63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D203-DC4F-42FD-A78C-F66CDA91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6487-2F20-4465-9E22-C69702EE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97AD-42D3-4A8A-920B-487A0119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45BB-DE93-49A5-9AD4-DB50A827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52E4-3E55-40FC-A83D-3545F8D8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160E-7FAF-49ED-A85F-C70A3776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5EE4-9D33-475D-9215-5A7114E1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3DBE-2084-47FB-A4BA-3756B3BA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8B61-492C-4632-BE86-49803282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5256-E25A-4D3E-8876-ED92029A59F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TT02934.wav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0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000" spc="-1" strike="noStrike">
                <a:solidFill>
                  <a:srgbClr val="ffff00"/>
                </a:solidFill>
                <a:latin typeface="Lucida Handwriting"/>
              </a:rPr>
              <a:t>EL ESCONDITE PERF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2000">
    <p:random/>
    <p:sndAc>
      <p:stSnd>
        <p:snd r:embed="rId2" name="ATT02934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306440" y="533520"/>
            <a:ext cx="6773400" cy="545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En el principio de los tiempos, se reunieron vari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demonios para hacer una travesur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Uno de ellos dijo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"Debemos quitarles algo a los humanos, per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¿qué les quitamos?"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Después de mucho pensar uno dijo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"¡Ya sé!, vamos a quitarles la felicidad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pero el problema va a ser dónde esconder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para que no la puedan encontrar"</a:t>
            </a:r>
            <a:r>
              <a:rPr b="0" lang="es-ES" sz="22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4343400"/>
            <a:ext cx="861048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....</a:t>
            </a: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a lo que inmediatamente repuso otr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"no, recuerda que tienen fuerza, alguna vez alguien</a:t>
            </a:r>
            <a:r>
              <a:rPr b="1" lang="es-MX" sz="20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puede subir y encontrarla, y si la encuentra un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ya todos sabrán donde está".</a:t>
            </a:r>
            <a:r>
              <a:rPr b="1" lang="es-ES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685800"/>
            <a:ext cx="891540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Propuso el primer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"Vamos a esconderla en la cima del monte más alto </a:t>
            </a:r>
            <a:r>
              <a:rPr b="1" lang="es-MX" sz="19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 </a:t>
            </a:r>
            <a:r>
              <a:rPr b="1" lang="es-ES" sz="19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del</a:t>
            </a:r>
            <a:r>
              <a:rPr b="1" lang="es-MX" sz="19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 </a:t>
            </a:r>
            <a:r>
              <a:rPr b="1" lang="es-ES" sz="19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mundo"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14680" y="4648320"/>
            <a:ext cx="731160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"No, recuerda que tienen curiosidad, alguna vez algu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construirá algún aparato para poder baj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y entonces la encontrará".</a:t>
            </a:r>
            <a:r>
              <a:rPr b="1" lang="es-ES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23440" y="320760"/>
            <a:ext cx="667008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Luego propuso otr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"Entonces vamos a esconderla en el fondo del mar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y otro contestó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4191120"/>
            <a:ext cx="868680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"No, recuerda que tienen inteligencia, y un día alguien va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construir una nave</a:t>
            </a:r>
            <a:r>
              <a:rPr b="1" lang="es-MX" sz="20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en la que pueda</a:t>
            </a:r>
            <a:r>
              <a:rPr b="1" lang="es-MX" sz="20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viajar a ot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planetas</a:t>
            </a:r>
            <a:r>
              <a:rPr b="1" lang="es-MX" sz="20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y la va a descubrir, y entonces todos tendrá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felicidad".</a:t>
            </a:r>
            <a:r>
              <a:rPr b="1" lang="es-ES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39600" y="320760"/>
            <a:ext cx="295740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Uno más dij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"Escondámosla en 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planeta lejano a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 </a:t>
            </a: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Tierra"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Y le dijer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2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7280" y="3505320"/>
            <a:ext cx="8099280" cy="31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Analizó cada una de ellas y entonces dij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"Creo saber dónde ponerla para que realmente nunca</a:t>
            </a:r>
            <a:r>
              <a:rPr b="1" lang="es-MX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la encuentren"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Todos voltearon asombrados y preguntaron al mismo tiemp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"¿Dónde?"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imes New Roman"/>
              </a:rPr>
              <a:t>El demonio respondió:</a:t>
            </a:r>
            <a:r>
              <a:rPr b="1" lang="es-MX" sz="2000" spc="-1" strike="noStrike">
                <a:solidFill>
                  <a:srgbClr val="00ffff"/>
                </a:solidFill>
                <a:latin typeface="Times New Roman"/>
              </a:rPr>
              <a:t> . . .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320760"/>
            <a:ext cx="861048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El último de ellos era un demonio que había permane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en silencio escuchando atentamente cada una de l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propuestas de los demá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72000" y="244440"/>
            <a:ext cx="72932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"La esconderemos dentro de ellos mismos, estarán t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Copperplate Gothic Bold"/>
                <a:ea typeface="Tahoma"/>
              </a:rPr>
              <a:t>ocupados buscándola fuera, que nunca la encontrarán"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0840" y="1052640"/>
            <a:ext cx="8840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pperplate Gothic Bold"/>
                <a:ea typeface="Tahoma"/>
              </a:rPr>
              <a:t>Todos estuvieron de acuerdo y desde entonces ha sido así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4653000"/>
            <a:ext cx="8601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Zurich Ex BT"/>
                <a:ea typeface="Times New Roman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Zurich Ex BT"/>
                <a:ea typeface="Times New Roman"/>
              </a:rPr>
              <a:t>El humano se pasa la vida buscando la felicidad</a:t>
            </a:r>
            <a:r>
              <a:rPr b="1" lang="es-MX" sz="2400" spc="-1" strike="noStrike">
                <a:solidFill>
                  <a:srgbClr val="ffffff"/>
                </a:solidFill>
                <a:latin typeface="Zurich Ex BT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Zurich Ex BT"/>
                <a:ea typeface="Times New Roman"/>
              </a:rPr>
              <a:t>sin s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Zurich Ex BT"/>
                <a:ea typeface="Times New Roman"/>
              </a:rPr>
              <a:t>que la trae consigo</a:t>
            </a:r>
            <a:r>
              <a:rPr b="1" lang="es-MX" sz="2400" spc="-1" strike="noStrike">
                <a:solidFill>
                  <a:srgbClr val="ffffff"/>
                </a:solidFill>
                <a:latin typeface="Zurich Ex BT"/>
                <a:ea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13:47:50Z</dcterms:created>
  <dc:creator>El tirano Aguirre y Rub.</dc:creator>
  <dc:description/>
  <dc:language>en-US</dc:language>
  <cp:lastModifiedBy>master</cp:lastModifiedBy>
  <dcterms:modified xsi:type="dcterms:W3CDTF">2005-07-18T15:33:37Z</dcterms:modified>
  <cp:revision>20</cp:revision>
  <dc:subject/>
  <dc:title>EL ESCONDITE PERFECTO</dc:title>
</cp:coreProperties>
</file>