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INTER~1.WAV" ContentType="audio/x-wav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5FD-0CFD-45FD-9A9B-3CE6913F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715-D5BA-40DF-B9F3-D08D42CA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A57-8C63-4830-9B90-6653D498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156-119E-4F86-A0EA-CD045F5E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C54-50E3-4B83-B216-7E3C4BEB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E62-4FAB-45E2-A1D6-7395C65F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043-00F9-499E-BCE4-B6B973BB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A27-6EA7-4749-AEF2-204433AB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D92-4877-43D4-9E95-48313C95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BCE-BEAE-470E-B0AD-69EED04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4E7-4EF8-451F-B2EC-966668C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E09-8BEA-47D9-B540-A2FEF54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720A-641C-48A5-99F7-4B80AAE22EE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~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1855800"/>
            <a:ext cx="6805440" cy="3127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ce algunos años, en las olimpiadas para personas con  discapacidad de Seattle, también llam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angle"/>
              </a:rPr>
              <a:t>Olimpiadas  Especiale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ueve participantes, todos con deficiencia mental, se alinearon para la salida de la carrera de los cien metros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  <p:sndAc>
      <p:stSnd>
        <p:snd r:embed="rId2" name="WINTER~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1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3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55680" y="152280"/>
            <a:ext cx="6836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uárdalo en tu corazón,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y  asegúrate de encontrarlo en el momento oportuno,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uando debas ayudar a</a:t>
            </a:r>
            <a:r>
              <a:rPr b="1" lang="gl-ES" sz="2400" spc="-1" strike="noStrike">
                <a:solidFill>
                  <a:srgbClr val="ffff00"/>
                </a:solidFill>
                <a:latin typeface="Arial"/>
              </a:rPr>
              <a:t>  alguien que te necesite.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pt-BR" sz="2400" spc="-1" strike="noStrike">
                <a:solidFill>
                  <a:srgbClr val="ffff00"/>
                </a:solidFill>
                <a:latin typeface="Comic Sans MS"/>
              </a:rPr>
              <a:t>¡QUÉ TENGAS UN BUEN D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335"/>
          <a:stretch/>
        </p:blipFill>
        <p:spPr>
          <a:xfrm>
            <a:off x="0" y="0"/>
            <a:ext cx="9144000" cy="470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5289480"/>
            <a:ext cx="7696440" cy="119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 la señal, todos partieron, no exactamente disparados, pero  con deseos de dar lo mejor de si, terminar la carrera y ganar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el premio.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3284640"/>
            <a:ext cx="8101080" cy="2669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s, excepto un muchacho, que tropezó en el piso,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cayó y rodando comenzó a llorar..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otros ocho escucharon el llanto, disminuyeron  el paso y miraron hacia atrá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eron al muchacho en el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suelo, se detuvieron y regresaron..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¡Todos!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8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343400"/>
            <a:ext cx="8153640" cy="230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Una de las muchachas, con síndrome de Down,  se arrodilló, le dio un beso y le dij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"Listo, ahora</a:t>
            </a:r>
            <a:r>
              <a:rPr b="1" lang="gl-ES" sz="2400" spc="-1" strike="noStrike">
                <a:solidFill>
                  <a:srgbClr val="ff3300"/>
                </a:solidFill>
                <a:latin typeface="Arial"/>
              </a:rPr>
              <a:t>  vas a ganar".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0000"/>
                </a:solidFill>
                <a:latin typeface="Arial"/>
              </a:rPr>
              <a:t>Y todos, los nueve competidores entrelazaron</a:t>
            </a:r>
            <a:r>
              <a:rPr b="1" lang="gl-ES" sz="2400" spc="-1" strike="noStrike">
                <a:solidFill>
                  <a:srgbClr val="010000"/>
                </a:solidFill>
                <a:latin typeface="Arial"/>
              </a:rPr>
              <a:t>  los brazos y caminaron juntos hasta la línea de llegada.</a:t>
            </a:r>
            <a:r>
              <a:rPr b="0" lang="es-E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300"/>
                            </p:stCondLst>
                            <p:childTnLst>
                              <p:par>
                                <p:cTn id="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4605480"/>
            <a:ext cx="7056360" cy="2113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El estadio entero se puso de pie y en ese momento</a:t>
            </a:r>
            <a:r>
              <a:rPr b="1" lang="gl-ES" sz="2400" spc="-1" strike="noStrike">
                <a:solidFill>
                  <a:srgbClr val="3333ff"/>
                </a:solidFill>
                <a:latin typeface="Arial"/>
              </a:rPr>
              <a:t>  no  había un solo par de ojos se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ff"/>
                </a:solidFill>
                <a:latin typeface="Arial"/>
              </a:rPr>
              <a:t>Los aplausos duraron largos  minutos,  las personas que estaban allí aquél día, repiten y</a:t>
            </a:r>
            <a:r>
              <a:rPr b="1" lang="gl-ES" sz="2400" spc="-1" strike="noStrike">
                <a:solidFill>
                  <a:srgbClr val="3333ff"/>
                </a:solidFill>
                <a:latin typeface="Arial"/>
              </a:rPr>
              <a:t>  repiten esa  historia hasta hoy.</a:t>
            </a:r>
            <a:r>
              <a:rPr b="0" lang="es-E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7560" y="4559400"/>
            <a:ext cx="8139240" cy="22348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ccff33"/>
                </a:solidFill>
                <a:latin typeface="Arial"/>
              </a:rPr>
              <a:t>¿Por qué?</a:t>
            </a: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cff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33"/>
                </a:solidFill>
                <a:latin typeface="Arial"/>
              </a:rPr>
              <a:t>Porque en el fondo, todos sabemos que lo  que importa en esta vida, más que ganar, es ayudar a los demás  para vencer, aunque ello signifique disminuir el paso y cambiar</a:t>
            </a:r>
            <a:r>
              <a:rPr b="1" lang="gl-ES" sz="2400" spc="-1" strike="noStrike">
                <a:solidFill>
                  <a:srgbClr val="ccff33"/>
                </a:solidFill>
                <a:latin typeface="Arial"/>
              </a:rPr>
              <a:t>  el rumbo.</a:t>
            </a: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47640"/>
            <a:ext cx="9144000" cy="750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797360"/>
            <a:ext cx="8424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que el verdadero sentido de esta vida es qu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TODOS JUNTOS GANEM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7360" y="414360"/>
            <a:ext cx="8451720" cy="211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 cada uno de nosotros en forma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jalá que también seamos capaces de disminuir el paso o cambiar el  rumbo, para ayudar a alguien que en cierto momento de su vida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  tropezó y que necesita de ayuda para continuar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4653000"/>
            <a:ext cx="80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80080"/>
            <a:ext cx="8532720" cy="174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reo que nos hace  falta disminuir el paso y cambiar de rumb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sobre todo que esto no sea  un proyecto individual,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no colect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re todos seguro qu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gl-ES" sz="2400" spc="-1" strike="noStrike">
                <a:solidFill>
                  <a:srgbClr val="ffffff"/>
                </a:solidFill>
                <a:latin typeface="Arial"/>
              </a:rPr>
              <a:t>podemos..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100"/>
                            </p:stCondLst>
                            <p:childTnLst>
                              <p:par>
                                <p:cTn id="1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20:40:15Z</dcterms:created>
  <dc:creator>Gabriel</dc:creator>
  <dc:description/>
  <dc:language>en-US</dc:language>
  <cp:lastModifiedBy>Flor</cp:lastModifiedBy>
  <dcterms:modified xsi:type="dcterms:W3CDTF">2007-06-15T19:20:23Z</dcterms:modified>
  <cp:revision>25</cp:revision>
  <dc:subject/>
  <dc:title>Slide 1</dc:title>
</cp:coreProperties>
</file>