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INTER~1.WAV" ContentType="audio/x-wav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81A-E48E-4BAA-BE2B-F36BA651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710-6ADA-4D28-B11D-021A258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923-7718-47F7-A1DA-A6E633E1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986-CAB7-4616-92D4-1DF86F27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ABC-6867-4C23-B3A1-CC3220CE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278-F2AD-461A-A0AB-42EF5BCA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016-C22C-469E-99E8-9264EFFF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DB8-A715-4D09-BD9B-436EDD8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77F-5860-4D39-B7F3-5B656C4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928-2D19-4630-8052-41F7739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C30-3B05-4EC5-85FD-7A64583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969-A2B3-4CDB-9F43-E3BCA5B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9C37-B7B1-40A6-A174-C329C80BB2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855800"/>
            <a:ext cx="6805440" cy="3127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ce algunos años, en las olimpiadas para personas con  discapacidad de Seattle, también llam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Olimpiadas  Especial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ueve participantes, todos con deficiencia mental, se alinearon para la salida de la carrera de los cien metros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1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55680" y="152280"/>
            <a:ext cx="6836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uárdalo en tu corazón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 asegúrate de encontrarlo en el momento oportuno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debas ayudar a</a:t>
            </a:r>
            <a:r>
              <a:rPr b="1" lang="gl-ES" sz="2400" spc="-1" strike="noStrike">
                <a:solidFill>
                  <a:srgbClr val="ffff00"/>
                </a:solidFill>
                <a:latin typeface="Arial"/>
              </a:rPr>
              <a:t>  alguien que te necesite.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¡QUÉ TENGAS UN BUEN D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335"/>
          <a:stretch/>
        </p:blipFill>
        <p:spPr>
          <a:xfrm>
            <a:off x="0" y="0"/>
            <a:ext cx="9144000" cy="470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289480"/>
            <a:ext cx="769644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la señal, todos partieron, no exactamente disparados, pero  con deseos de dar lo mejor de si, terminar la carrera y ganar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el premio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284640"/>
            <a:ext cx="8101080" cy="2669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s, excepto un muchacho, que tropezó en el piso,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cayó y rodando comenzó a llorar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otros ocho escucharon el llanto, disminuyeron  el paso y miraron hacia at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eron al muchacho en el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suelo, se detuvieron y regresaron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¡Todos!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343400"/>
            <a:ext cx="8153640" cy="230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Una de las muchachas, con síndrome de Down,  se arrodilló, le dio un beso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"Listo, ahora</a:t>
            </a:r>
            <a:r>
              <a:rPr b="1" lang="gl-ES" sz="2400" spc="-1" strike="noStrike">
                <a:solidFill>
                  <a:srgbClr val="ff3300"/>
                </a:solidFill>
                <a:latin typeface="Arial"/>
              </a:rPr>
              <a:t>  vas a ganar".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Y todos, los nueve competidores entrelazaron</a:t>
            </a:r>
            <a:r>
              <a:rPr b="1" lang="gl-ES" sz="2400" spc="-1" strike="noStrike">
                <a:solidFill>
                  <a:srgbClr val="010000"/>
                </a:solidFill>
                <a:latin typeface="Arial"/>
              </a:rPr>
              <a:t>  los brazos y caminaron juntos hasta la línea de llegada.</a:t>
            </a:r>
            <a:r>
              <a:rPr b="0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"/>
                            </p:stCondLst>
                            <p:childTnLst>
                              <p:par>
                                <p:cTn id="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4605480"/>
            <a:ext cx="7056360" cy="2113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El estadio entero se puso de pie y en ese momento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no  había un solo par de ojos se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Los aplausos duraron largos  minutos,  las personas que estaban allí aquél día, repiten y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repiten esa  historia hasta hoy.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7560" y="4559400"/>
            <a:ext cx="8139240" cy="22348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¿Por qué?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ff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Porque en el fondo, todos sabemos que lo  que importa en esta vida, más que ganar, es ayudar a los demás  para vencer, aunque ello signifique disminuir el paso y cambiar</a:t>
            </a:r>
            <a:r>
              <a:rPr b="1" lang="gl-ES" sz="2400" spc="-1" strike="noStrike">
                <a:solidFill>
                  <a:srgbClr val="ccff33"/>
                </a:solidFill>
                <a:latin typeface="Arial"/>
              </a:rPr>
              <a:t>  el rumbo.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47640"/>
            <a:ext cx="9144000" cy="750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797360"/>
            <a:ext cx="8424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l verdadero sentido de esta vida es 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ODOS JUNTOS GANEM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7360" y="414360"/>
            <a:ext cx="8451720" cy="211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 cada uno de nosotros en forma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alá que también seamos capaces de disminuir el paso o cambiar el  rumbo, para ayudar a alguien que en cierto momento de su vida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tropezó y que necesita de ayuda para continua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465300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80080"/>
            <a:ext cx="8532720" cy="174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eo que nos hace  falta disminuir el paso y cambiar de rumb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sobre todo que esto no sea  un proyecto individual,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no colect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 todos seguro qu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podemos..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1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40:15Z</dcterms:created>
  <dc:creator>Gabriel</dc:creator>
  <dc:description/>
  <dc:language>en-US</dc:language>
  <cp:lastModifiedBy>Flor</cp:lastModifiedBy>
  <dcterms:modified xsi:type="dcterms:W3CDTF">2007-06-15T19:20:23Z</dcterms:modified>
  <cp:revision>25</cp:revision>
  <dc:subject/>
  <dc:title>Slide 1</dc:title>
</cp:coreProperties>
</file>