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WINTER~1.WAV" ContentType="audio/x-wav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C30-FEEB-4FFE-A36B-4FBB4C1E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D3C-8DA9-4EF7-8B64-2ACD5CF3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FF8-4D5B-44F0-978A-DDD5E014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4BFC-603D-478E-8DB9-DF70D921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EB4-6191-4689-8E84-2203251B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B8B-E8C2-40B2-9415-75F759E5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724-BB8B-406E-AA72-7D320C66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6CD-BC47-4559-9B58-46B0DA63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8CB-F879-4060-936B-0BD3F981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17B-16C5-4BF5-82E5-E2B2ADAA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CCF-45BB-4DEC-86E9-1D34289F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444-3886-413F-9FBA-8247A37F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B75A-7F3F-4595-9F36-E02BFCEAA19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TER~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6520" y="1855800"/>
            <a:ext cx="6805440" cy="3127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ace algunos años, en las olimpiadas para personas con  discapacidad de Seattle, también llam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angle"/>
              </a:rPr>
              <a:t>Olimpiadas  Especiales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ueve participantes, todos con deficiencia mental, se alinearon para la salida de la carrera de los cien metros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  <p:sndAc>
      <p:stSnd>
        <p:snd r:embed="rId2" name="WINTER~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1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30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55680" y="152280"/>
            <a:ext cx="68360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Guárdalo en tu corazón,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y  asegúrate de encontrarlo en el momento oportuno,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uando debas ayudar a</a:t>
            </a:r>
            <a:r>
              <a:rPr b="1" lang="gl-ES" sz="2400" spc="-1" strike="noStrike">
                <a:solidFill>
                  <a:srgbClr val="ffff00"/>
                </a:solidFill>
                <a:latin typeface="Arial"/>
              </a:rPr>
              <a:t>  alguien que te necesite.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¡QUÉ TENGAS UN BUEN DI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335"/>
          <a:stretch/>
        </p:blipFill>
        <p:spPr>
          <a:xfrm>
            <a:off x="0" y="0"/>
            <a:ext cx="9144000" cy="4708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5289480"/>
            <a:ext cx="7696440" cy="1191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 la señal, todos partieron, no exactamente disparados, pero  con deseos de dar lo mejor de si, terminar la carrera y ganar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  el premio.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3284640"/>
            <a:ext cx="8101080" cy="2669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odos, excepto un muchacho, que tropezó en el piso,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  cayó y rodando comenzó a llorar..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otros ocho escucharon el llanto, disminuyeron  el paso y miraron hacia atrá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ieron al muchacho en el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  suelo, se detuvieron y regresaron..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¡Todos!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8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4343400"/>
            <a:ext cx="8153640" cy="230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0000"/>
                </a:solidFill>
                <a:latin typeface="Arial"/>
              </a:rPr>
              <a:t>Una de las muchachas, con síndrome de Down,  se arrodilló, le dio un beso y le dij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"Listo, ahora</a:t>
            </a:r>
            <a:r>
              <a:rPr b="1" lang="gl-ES" sz="2400" spc="-1" strike="noStrike">
                <a:solidFill>
                  <a:srgbClr val="ff3300"/>
                </a:solidFill>
                <a:latin typeface="Arial"/>
              </a:rPr>
              <a:t>  vas a ganar".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0000"/>
                </a:solidFill>
                <a:latin typeface="Arial"/>
              </a:rPr>
              <a:t>Y todos, los nueve competidores entrelazaron</a:t>
            </a:r>
            <a:r>
              <a:rPr b="1" lang="gl-ES" sz="2400" spc="-1" strike="noStrike">
                <a:solidFill>
                  <a:srgbClr val="010000"/>
                </a:solidFill>
                <a:latin typeface="Arial"/>
              </a:rPr>
              <a:t>  los brazos y caminaron juntos hasta la línea de llegada.</a:t>
            </a:r>
            <a:r>
              <a:rPr b="0" lang="es-E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300"/>
                            </p:stCondLst>
                            <p:childTnLst>
                              <p:par>
                                <p:cTn id="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42920" y="4605480"/>
            <a:ext cx="7056360" cy="2113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El estadio entero se puso de pie y en ese momento</a:t>
            </a:r>
            <a:r>
              <a:rPr b="1" lang="gl-ES" sz="2400" spc="-1" strike="noStrike">
                <a:solidFill>
                  <a:srgbClr val="3333ff"/>
                </a:solidFill>
                <a:latin typeface="Arial"/>
              </a:rPr>
              <a:t>  no  había un solo par de ojos se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Los aplausos duraron largos  minutos,  las personas que estaban allí aquél día, repiten y</a:t>
            </a:r>
            <a:r>
              <a:rPr b="1" lang="gl-ES" sz="2400" spc="-1" strike="noStrike">
                <a:solidFill>
                  <a:srgbClr val="3333ff"/>
                </a:solidFill>
                <a:latin typeface="Arial"/>
              </a:rPr>
              <a:t>  repiten esa  historia hasta hoy.</a:t>
            </a:r>
            <a:r>
              <a:rPr b="0" lang="es-E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7560" y="4559400"/>
            <a:ext cx="8139240" cy="22348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ccff33"/>
                </a:solidFill>
                <a:latin typeface="Arial"/>
              </a:rPr>
              <a:t>¿Por qué?</a:t>
            </a: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ccff33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33"/>
                </a:solidFill>
                <a:latin typeface="Arial"/>
              </a:rPr>
              <a:t>Porque en el fondo, todos sabemos que lo  que importa en esta vida, más que ganar, es ayudar a los demás  para vencer, aunque ello signifique disminuir el paso y cambiar</a:t>
            </a:r>
            <a:r>
              <a:rPr b="1" lang="gl-ES" sz="2400" spc="-1" strike="noStrike">
                <a:solidFill>
                  <a:srgbClr val="ccff33"/>
                </a:solidFill>
                <a:latin typeface="Arial"/>
              </a:rPr>
              <a:t>  el rumbo.</a:t>
            </a: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647640"/>
            <a:ext cx="9144000" cy="7505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4797360"/>
            <a:ext cx="8424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que el verdadero sentido de esta vida es qu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TODOS JUNTOS GANEM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7360" y="414360"/>
            <a:ext cx="8451720" cy="2113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 cada uno de nosotros en forma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jalá que también seamos capaces de disminuir el paso o cambiar el  rumbo, para ayudar a alguien que en cierto momento de su vida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  tropezó y que necesita de ayuda para continuar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4653000"/>
            <a:ext cx="80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80080"/>
            <a:ext cx="8532720" cy="174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reo que nos hace  falta disminuir el paso y cambiar de rumbo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sobre todo que esto no sea  un proyecto individual,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no colectiv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tre todos seguro qu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podemos..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100"/>
                            </p:stCondLst>
                            <p:childTnLst>
                              <p:par>
                                <p:cTn id="1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20:40:15Z</dcterms:created>
  <dc:creator>Gabriel</dc:creator>
  <dc:description/>
  <dc:language>en-US</dc:language>
  <cp:lastModifiedBy>Flor</cp:lastModifiedBy>
  <dcterms:modified xsi:type="dcterms:W3CDTF">2007-06-15T19:20:23Z</dcterms:modified>
  <cp:revision>25</cp:revision>
  <dc:subject/>
  <dc:title>Slide 1</dc:title>
</cp:coreProperties>
</file>