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08680"/>
            <a:ext cx="822816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868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10868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08680"/>
            <a:ext cx="264924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108680"/>
            <a:ext cx="264924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108680"/>
            <a:ext cx="264924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8160" cy="66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10868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410868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08680"/>
            <a:ext cx="822816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108680"/>
            <a:ext cx="822816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0868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410868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108680"/>
            <a:ext cx="264924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4108680"/>
            <a:ext cx="264924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4108680"/>
            <a:ext cx="264924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8160" cy="66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0868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10868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8680"/>
            <a:ext cx="8228160" cy="20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81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8433">
                <a:moveTo>
                  <a:pt x="0" y="0"/>
                </a:moveTo>
                <a:lnTo>
                  <a:pt x="0" y="26"/>
                </a:lnTo>
                <a:lnTo>
                  <a:pt x="0" y="26"/>
                </a:lnTo>
                <a:lnTo>
                  <a:pt x="0" y="264"/>
                </a:lnTo>
                <a:lnTo>
                  <a:pt x="0" y="8432"/>
                </a:lnTo>
                <a:lnTo>
                  <a:pt x="0" y="8432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096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-245160"/>
            <a:ext cx="806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              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ANDO EL HIJO NOS DICE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NO TE METAS EN MI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211640" y="2755800"/>
            <a:ext cx="4930920" cy="3767400"/>
            <a:chOff x="4211640" y="2755800"/>
            <a:chExt cx="4930920" cy="3767400"/>
          </a:xfrm>
        </p:grpSpPr>
        <p:pic>
          <p:nvPicPr>
            <p:cNvPr id="82" name="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4211640" y="2755800"/>
              <a:ext cx="4930920" cy="37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211640" y="2755800"/>
              <a:ext cx="4930920" cy="37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a casi no hablamos, no me cuentas tus cosas, te aburre hablar con viejos que no entienden el mundo de hoy.  Ahora sólo me buscas cuando hay que pagar algo o necesitas dinero para la universidad, o  salir, o peor aún, te busco yo, cuando tengo que llamarte la at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NO TE METAS EN MI VIDA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26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              </a:t>
            </a:r>
            <a:br>
              <a:rPr sz="40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ero estoy seguro que ante èstas palabras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" NO TE METAS EN MI VIDA"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demos responder juntos: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¡HIJO,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YO NO ME METO EN TU VIDA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TU TE HAS METIDO EN LA MÍA, Y TE ASEGURO, QUE DESDE EL PRIMER DÍA, HASTA EL DÍA DE HOY, NO ME ARREPIENTO QUE TE  HAYAS METIDO EN ELLA Y LA HAYAS CAMBIADO PARA SIEMPRE!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¡MIENTRAS ESTEMOS VIVOS, NOS METEREMOS EN TU VIDA, ASÍ COMO TE METISTE EN LA NUEST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  AYUDARTE, PARA FORMARTE, PARA AMARTE Y PARA HACER DE TI UNA PERSONA DE BIEN!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¡SÓLO LOS PADRES QUE SABEN METERSE EN LA VIDA DE SUS HIJOS  LOGRAN HACER DE ÉSTOS, HOMBRES Y MUJERES QUE TRIUNFEN EN LA VIDA Y SEAN CAPACES DE AMAR!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PÁS: ¡ MUCHAS GRACIAS!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r meterse en la vida de  sus hijos, ahhh más bien -corrijo- por haber dejado que sus hijos se metan en sus vidas!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 para ustedes hijos:  VALOREN A SUS PADRES, NO SON  PERFECTOS, PERO LOS AMAN, Y LO ÚNICO QUE DESEAN ES QUE USTEDES SEAN  CAPACES DE SALIR ADELANTE EN LA VIDA Y TRIUNFAR COMO HOMBRES DE BIEN!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 vida da muchas vueltas, y en menos de lo que ustedes se imaginen alguien te dir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4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Tahoma"/>
              </a:rPr>
              <a:t>NO TE METAS EN MI V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4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4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  paternidad no es un capricho o un  accidente, es un don de Dios, que nace del Amor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         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1560"/>
            <a:ext cx="75582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ta podría ser mi respuesta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81208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  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¡HIJO,  UN  MOMENTO, NO SOY YO EL QUE ME METO EN TU VIDA,  TU TE HAS METIDO  A LA MÍA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ce muchos años, gracias a Dios, y por el amor que mamá y yo nos tenemos, llegaste a nuestras vidas, ocupaste todo nuestro tiempo, aún antes de nacer, mamá se sentía mal, no podía comer, todo lo que comía lo devolvía, y tenía que guardar reposo.  Yo tuve que repartirme entre las tareas de mi trabajo y las de la casa para ayudar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 últimos meses, antes de que llegaras a casa, mamá no dormía y no me dejaba dormir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 gastos aumentaron increíblemente, tanto que gran parte de lo nuestro se gastaba en ti en un buen médico que atendiera a mamá y la ayudara a llevar un embarazo saludable, en medicamentos, en la maternidad, en comprarte todo un guardarropa, mamá no veía algo de bebé, que no lo quisiera para ti, una vestido  , un moisés, todo lo que se pudiera, con tal de que tú estuvieras  bien  y  tuvieras lo mejor posib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NO TE METAS EN MI VIDA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Tahoma"/>
              </a:rPr>
              <a:t>Llegó el día en que naciste: hay que comprar algo para darles de recuerdo a los que te vinieran a conocer, dijo mamà, hay que adaptar un cuarto para el bebé.</a:t>
            </a:r>
            <a:br>
              <a:rPr sz="2800"/>
            </a:br>
            <a:br>
              <a:rPr sz="2800"/>
            </a:br>
            <a:r>
              <a:rPr b="0" lang="es-CO" sz="2800" spc="-1" strike="noStrike">
                <a:solidFill>
                  <a:srgbClr val="ffffff"/>
                </a:solidFill>
                <a:latin typeface="Tahoma"/>
              </a:rPr>
              <a:t>Desde la primera noche no dormimos.  Cada tres horas como si fueras una alarma de reloj nos despertabas para que te diéramos de comer, otras te sentías mal y llorabas y llorabas, sin que nosotros supiéramos que hacer, pues no sabíamos qué te sucedía y hasta llorábamos contigo. . </a:t>
            </a:r>
            <a:r>
              <a:rPr b="1" lang="es-CO" sz="2800" spc="-1" strike="noStrike">
                <a:solidFill>
                  <a:srgbClr val="ffffff"/>
                </a:solidFill>
                <a:latin typeface="Tahoma"/>
              </a:rPr>
              <a:t>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Tahoma"/>
              </a:rPr>
              <a:t>NO TE METAS EN MI VID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mpezaste a caminar, yo no sé cuando he tenido que  estar más detrás de ti, si cuando empezaste a caminar o cuando creíste que ya sabías.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Ya no podía sentarme tranquilo a leer el periódico o a ver una película o el partido de mi equipo favorito, porque para cuando acordaba, te perdías  de mi vista y tenía que salir tras de ti para evitar que te lastimaras.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NO TE METAS EN MI VID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davía recuerdo el primer día de clases,  cuando tuve que llamar al trabajo y decir que no podría ir, ya que tú en la puerta del colegio no querías soltarme y entrar, llorabas y me pedías que no me fuera, tuve que entrar contigo a la escuela, que pedirle a la maestra que me dejara estar a tu lado, un rato, ese día en el salón para que fueras tomando confianza.  A las pocas semanas no sólo ya no me pedías que no me fuera, hasta te olvidabas de despedirte cuando bajabas del auto corriendo para encontrarte con tus amigui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NO TE METAS EN MI VIDA??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guiste Creciendo, ya no querías que te lleváramos a tus reuniones, nos pedías </a:t>
            </a:r>
            <a:r>
              <a:rPr b="1" lang="en-GB" sz="2800" spc="-1" strike="noStrike">
                <a:solidFill>
                  <a:srgbClr val="00ff00"/>
                </a:solidFill>
                <a:latin typeface="Tahoma"/>
              </a:rPr>
              <a:t>que una calle ante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te dejáramos y pasáramos por ti una calle después, por que ya eras cool, top, no querías llegar temprano a casa, te molestabas si te marcábamos reglas, no podíamos hacer comentarios acerca de tus amigos, sin que te volvieras contra nosotros, como si los conocieras a ellos de toda la vida y nosotros fuéramos unos perfectos desconocidos para ti.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NO TE METAS EN MI VIDA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da vez sé menos de ti por ti mismo, sé mas por lo que oigo de los demás, ya casi no quieres hablar conmigo,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ices que nada más te estoy regañando, y todo lo que yo hago está mal,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 es razón para que te burles de mí, pregunto: con esos defectos te he podido dar lo que hasta ahora tienes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má se la pasa en vela y de pasada no me deja dormir a mí diciéndome: que no has llegado y que es de madrugada, que tu celular está desconectado, que ya son las 3:00  y no llegas.  Hasta que por fin  podemos dormir cuando acabas de llegar. 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NO TE METAS EN MI VIDA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0999309</cp:lastModifiedBy>
  <dcterms:modified xsi:type="dcterms:W3CDTF">2006-09-08T19:15:24Z</dcterms:modified>
  <cp:revision>3</cp:revision>
  <dc:subject/>
  <dc:title>Diapositiva 1</dc:title>
</cp:coreProperties>
</file>